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D90D-5578-4A5B-8B7C-E994DCF0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1495-13E8-43B2-83FE-E1386807D5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A43-3FDE-44BD-82ED-F3CDE7F0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65B-25D4-4ACE-BF7E-835680B2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914-9E51-45C7-B342-861A1B8A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1E7-8ECA-4DCF-8131-EAD0D950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6D9-CDBB-4AE2-8C40-B69703C0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50A-9D38-4B37-83E5-1645A19B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525-0FF4-4372-B672-3ACB43B3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39B-4DA4-469D-AE43-53F23A08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6CF-2151-461F-BAE6-488AFF6D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1BF-D94E-4843-9FDC-88EE0A3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1E4-CACB-495E-9B94-DEA8022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329-BA7F-47AB-BDD9-2475AE5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B82-66E5-4674-A8EF-C62189119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0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3048120"/>
            <a:ext cx="7162920" cy="16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SA Day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14300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99"/>
                </a:solidFill>
                <a:latin typeface="Times New Roman"/>
              </a:rPr>
              <a:t>Key Question 15 What is Static Electricity? EXIT SLI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609480"/>
            <a:ext cx="899136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5: What is static electricity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static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electricity i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entify 2 types of electric charge and describe how they interact with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w arrows to represent the motion of the balls in the picture given the charges indic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ive examples of times when you may experience static electricity or how it can be usef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have you felt or witnessed a static discha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at least 3 instances of static electricity in use during real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70021" b="-9021"/>
          <a:stretch/>
        </p:blipFill>
        <p:spPr>
          <a:xfrm>
            <a:off x="19810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69369" t="0" r="0" b="0"/>
          <a:stretch/>
        </p:blipFill>
        <p:spPr>
          <a:xfrm>
            <a:off x="1066680" y="2666880"/>
            <a:ext cx="505080" cy="419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70021" b="-9021"/>
          <a:stretch/>
        </p:blipFill>
        <p:spPr>
          <a:xfrm>
            <a:off x="4800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69369" t="0" r="0" b="0"/>
          <a:stretch/>
        </p:blipFill>
        <p:spPr>
          <a:xfrm>
            <a:off x="7543800" y="2743200"/>
            <a:ext cx="504720" cy="41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rcRect l="0" t="0" r="70021" b="-9021"/>
          <a:stretch/>
        </p:blipFill>
        <p:spPr>
          <a:xfrm>
            <a:off x="39625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rcRect l="69369" t="0" r="0" b="0"/>
          <a:stretch/>
        </p:blipFill>
        <p:spPr>
          <a:xfrm>
            <a:off x="6734160" y="2743200"/>
            <a:ext cx="504720" cy="41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590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7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6556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16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976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2316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Key Question 15 – Exit 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 &amp; Circuits – ActivInspire Flipchart (internet activities) TUESDAY &amp;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! (Step 2 Due 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“open” circ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2C2628C7-AD7E-4BB6-AE69-92E548CB12C3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July 30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is required to make a circui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 of insulators and conductors in electric circ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a series and parallel circuits are constr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and describe how electrical energy can be converted into other forms of energy (light, sound, and mo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1217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Electromagnet Fishing Derby Step 2       DUE MON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6252" t="43002" r="43751" b="10000"/>
          <a:stretch/>
        </p:blipFill>
        <p:spPr>
          <a:xfrm>
            <a:off x="6019920" y="2133720"/>
            <a:ext cx="259056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TPChart"/>
          <p:cNvGraphicFramePr/>
          <p:nvPr/>
        </p:nvGraphicFramePr>
        <p:xfrm>
          <a:off x="4711680" y="2120760"/>
          <a:ext cx="443232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1680" y="2120760"/>
                    <a:ext cx="443232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happen if one bulb is removed from the circuit shown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ther bulb will go out since the circuit would be “ope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ther bulb will stay lit since it is on a separate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ther bulb will explode from too much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86" name="ANShape" hidden="1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NText" hidden="1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2:32:06Z</dcterms:created>
  <dc:creator>CCPS</dc:creator>
  <dc:description/>
  <dc:language>en-US</dc:language>
  <cp:lastModifiedBy>CCPS</cp:lastModifiedBy>
  <dcterms:modified xsi:type="dcterms:W3CDTF">2010-03-10T12:32:23Z</dcterms:modified>
  <cp:revision>1</cp:revision>
  <dc:subject/>
  <dc:title>Slide 1</dc:title>
</cp:coreProperties>
</file>